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107B-ED28-4F0F-9F91-F1E712F17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37A1-8F2C-4DDB-81DC-25A612CC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29D9-5240-417D-A7D4-7A44B7D8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04CB-E301-45A9-A0EE-5C1A2A18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AB86-DCDA-495D-9A12-4B53B6EB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6581-360F-4A35-8789-0FEBBF28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EF7B-C332-4287-AF7B-41A4010D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CCE8-AA22-43B5-8CEB-FA2FC9EF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B743-F3AE-40E7-BD61-033DA45D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C142-B06A-40D2-BD92-32F53F5E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6A2F-5093-49D0-B078-6B7DA570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1115-58F0-420F-BE6B-772C5B0C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FF5C-64E4-4A5C-A423-6AD729C1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01D0-8BC7-4FF7-AA52-20EB7EBF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7F9F-85A6-4D55-A3EB-8840283A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3A80-988D-41FB-A5A7-3D71D3FA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9576-EF98-4D24-86C9-CA2FAE78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9A08-6D2C-4F76-A863-EF3C8269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0345-A8A7-4B6F-B424-016D3C2E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84C4-1DC8-49C6-B755-43731EF4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B03F-5D73-49C8-8AA8-DF93EE47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C324-A0B4-435B-8179-C53BB2CE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8AF1-00B9-446D-A7B3-D4361B10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0FD1-070D-4989-AD78-2ACEE215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C3A3-CE1B-4287-9244-CDFEE5575B5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A8DD-2001-4F0F-9AF7-AEF3F8A0CF4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二章  寄生虫分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c Classif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体寄生虫被分类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真核生物界，即原生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rotozo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、色混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hromist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和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nimali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。原生动物界和色混界动物是单细胞动物，而动物界动物（也称后生动物）是多细胞动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医学寄生虫分类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" y="1252440"/>
            <a:ext cx="8229600" cy="5327640"/>
            <a:chOff x="457200" y="1252440"/>
            <a:chExt cx="8229600" cy="5327640"/>
          </a:xfrm>
        </p:grpSpPr>
        <p:sp>
          <p:nvSpPr>
            <p:cNvPr id="216" name=""/>
            <p:cNvSpPr/>
            <p:nvPr/>
          </p:nvSpPr>
          <p:spPr>
            <a:xfrm>
              <a:off x="5002200" y="600084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人芽囊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stocystis homin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38480" y="600084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双环门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igy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600084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色混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romis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2200" y="4781520"/>
              <a:ext cx="368460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疟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smodium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弓形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xoplasm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隐孢子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yptospor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袋纤毛虫 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nt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38480" y="4781520"/>
              <a:ext cx="276372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孢子虫门（孢子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orozoa(sporozoan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毛虫门（纤毛虫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ophor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ates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4781520"/>
              <a:ext cx="178128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2200" y="4201920"/>
              <a:ext cx="368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耐格里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egler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38480" y="4201920"/>
              <a:ext cx="276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透色动物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col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" y="4201920"/>
              <a:ext cx="17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02200" y="362268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滴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mo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38480" y="362268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副基体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basal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362268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02200" y="1689120"/>
              <a:ext cx="368460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巴氏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muth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内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利什曼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贾第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iard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38480" y="1611360"/>
              <a:ext cx="27637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阿米巴门（阿米巴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moebozoa(ameba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1611360"/>
              <a:ext cx="178128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原生动物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tozo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02200" y="1252440"/>
              <a:ext cx="36846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寄生虫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s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8480" y="1252440"/>
              <a:ext cx="2763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门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yl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1252440"/>
              <a:ext cx="178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ingdo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12524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658008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868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7200" y="1611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95640" y="2414520"/>
              <a:ext cx="2808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眼虫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Euglen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后滴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Metamonad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28720" y="907920"/>
            <a:ext cx="7775640" cy="5345280"/>
            <a:chOff x="828720" y="907920"/>
            <a:chExt cx="7775640" cy="5345280"/>
          </a:xfrm>
        </p:grpSpPr>
        <p:sp>
          <p:nvSpPr>
            <p:cNvPr id="241" name=""/>
            <p:cNvSpPr/>
            <p:nvPr/>
          </p:nvSpPr>
          <p:spPr>
            <a:xfrm>
              <a:off x="4983120" y="4057560"/>
              <a:ext cx="33670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支睾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norch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姜片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sciolops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并殖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gonim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裂体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chistos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bilharz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东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ientobilharz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55920" y="4057560"/>
              <a:ext cx="25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扁形动物门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、绦虫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ty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, ces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8720" y="4057560"/>
              <a:ext cx="16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3120" y="907920"/>
              <a:ext cx="362124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蛔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sca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鞭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u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住肠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erobi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钩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cylost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板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cator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inell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吴策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ucherer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布鲁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ug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管圆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giostrongyl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5920" y="907920"/>
              <a:ext cx="25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线形动物门（线虫）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mat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nematode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8720" y="907920"/>
              <a:ext cx="16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动物界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imal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8720" y="90792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8720" y="625320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872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5020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412920"/>
            <a:ext cx="8231040" cy="6400800"/>
            <a:chOff x="457200" y="412920"/>
            <a:chExt cx="8231040" cy="6400800"/>
          </a:xfrm>
        </p:grpSpPr>
        <p:sp>
          <p:nvSpPr>
            <p:cNvPr id="252" name=""/>
            <p:cNvSpPr/>
            <p:nvPr/>
          </p:nvSpPr>
          <p:spPr>
            <a:xfrm>
              <a:off x="5002200" y="2195640"/>
              <a:ext cx="3684600" cy="42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昆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按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ophel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库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l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伊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e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蝇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usc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白蛉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lebotom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客蚤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enopsyll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dicul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tte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螯肢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硬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x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钝缘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nithodoro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恙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ptotrombidium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疥螨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rcop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蠕形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mod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尘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rmatophag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甲壳类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溪蟹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tamon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蝲蛄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mbar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剑水蚤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yclo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38480" y="2208240"/>
              <a:ext cx="276372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节肢动物门（昆虫、螯肢动物、甲壳类动物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rthropod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2878200"/>
              <a:ext cx="178128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03640" y="1692360"/>
              <a:ext cx="36846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巨吻棘头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racanthorhynch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38480" y="1679760"/>
              <a:ext cx="276372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颚门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ognath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1679760"/>
              <a:ext cx="178128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02200" y="412920"/>
              <a:ext cx="36846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绦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est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带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eni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球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chinococcu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膜壳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ymenolepi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迭宫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iromet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38480" y="412920"/>
              <a:ext cx="2763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" y="412920"/>
              <a:ext cx="178128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41292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" y="6588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868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08-31T03:37:33Z</dcterms:modified>
  <cp:revision>121</cp:revision>
  <dc:subject/>
  <dc:title>医学寄生虫学总论</dc:title>
</cp:coreProperties>
</file>